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9CE379-EBFA-445B-8644-249B9AB99B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53D0C4-89B3-4AAB-BCC9-9FBFEABFF0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EF4DE7-0F37-4860-815B-3F3033C968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8F78F4-8C35-4A29-B4A3-06CB24D3B6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343530-E362-496C-ABF6-D91E6BC619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FFA746-6C21-4058-88D1-F9267B1C5A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C4FD38-E6E3-4FD7-AFAF-E23FDD8B7F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086298-0C5B-4B17-A34F-4A85A06DED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EC9849-24C9-49DE-B6A7-17B5C16903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9B11DE-CE4A-4861-8DA8-96FE1A060E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07D2E2-6B7D-4181-97C8-9F02F00DDA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9630D1-A18D-4EAC-ACA2-B6CB7FEF47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1143000" y="6248520"/>
            <a:ext cx="502920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6AD3-24FB-4F04-9633-A8D615890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HEDS%20logo_inner%20shadow" descr=""/>
          <p:cNvPicPr/>
          <p:nvPr/>
        </p:nvPicPr>
        <p:blipFill>
          <a:blip r:embed="rId3"/>
          <a:stretch/>
        </p:blipFill>
        <p:spPr>
          <a:xfrm>
            <a:off x="6705720" y="6248520"/>
            <a:ext cx="1800000" cy="44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720"/>
            <a:ext cx="8153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ssons Learned</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343400"/>
            <a:ext cx="6477120" cy="236232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on Tanner</a:t>
            </a:r>
            <a:endParaRPr b="0" lang="en-US" sz="2400" spc="-1" strike="noStrike">
              <a:solidFill>
                <a:srgbClr val="000000"/>
              </a:solidFill>
              <a:latin typeface="Times New Roman"/>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Brush Script MT"/>
              </a:rPr>
              <a:t>Higher Education Digitisation Service</a:t>
            </a:r>
            <a:endParaRPr b="0" lang="en-US" sz="2800" spc="-1" strike="noStrike">
              <a:solidFill>
                <a:srgbClr val="000000"/>
              </a:solidFill>
              <a:latin typeface="Times New Roman"/>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ttp://heds.herts.ac.uk</a:t>
            </a:r>
            <a:endParaRPr b="0" lang="en-US" sz="2400" spc="-1" strike="noStrike">
              <a:solidFill>
                <a:srgbClr val="000000"/>
              </a:solidFill>
              <a:latin typeface="Times New Roman"/>
            </a:endParaRPr>
          </a:p>
        </p:txBody>
      </p:sp>
      <p:pic>
        <p:nvPicPr>
          <p:cNvPr id="43" name="HEDS%20logo_inner%20shadow" descr=""/>
          <p:cNvPicPr/>
          <p:nvPr/>
        </p:nvPicPr>
        <p:blipFill>
          <a:blip r:embed="rId2"/>
          <a:stretch/>
        </p:blipFill>
        <p:spPr>
          <a:xfrm>
            <a:off x="2895480" y="2819520"/>
            <a:ext cx="3595680" cy="89532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304920" y="228600"/>
            <a:ext cx="8474040" cy="5640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sts are usually people drive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re human intervention means higher costs.</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ff costs and overheads are often hidden wh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orking in-house and can be excessive.</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tadata creation can eat into your budget unless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good estimating has been done.</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 development and delivery mechanisms can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easily overrun and eat the rest of the budget.</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eparation - the great hidden cost that can be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least 30% of the total.</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304920" y="228600"/>
            <a:ext cx="8474040" cy="5274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What Challenges Remai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Metadata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bef01"/>
                </a:solidFill>
                <a:latin typeface="Arial"/>
              </a:rPr>
              <a:t>-</a:t>
            </a:r>
            <a:r>
              <a:rPr b="1" lang="en-GB" sz="2400" spc="-1" strike="noStrike">
                <a:solidFill>
                  <a:srgbClr val="ffffff"/>
                </a:solidFill>
                <a:latin typeface="Arial"/>
              </a:rPr>
              <a:t> descriptive and preservation le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bef01"/>
                </a:solidFill>
                <a:latin typeface="Arial"/>
              </a:rPr>
              <a:t>	</a:t>
            </a:r>
            <a:r>
              <a:rPr b="1" lang="en-GB" sz="2400" spc="-1" strike="noStrike">
                <a:solidFill>
                  <a:srgbClr val="fbef01"/>
                </a:solidFill>
                <a:latin typeface="Arial"/>
              </a:rPr>
              <a:t>-</a:t>
            </a:r>
            <a:r>
              <a:rPr b="1" lang="en-GB" sz="2400" spc="-1" strike="noStrike">
                <a:solidFill>
                  <a:srgbClr val="ffffff"/>
                </a:solidFill>
                <a:latin typeface="Arial"/>
              </a:rPr>
              <a:t> addressed partially through METAe Metadata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Engine project </a:t>
            </a:r>
            <a:r>
              <a:rPr b="1" lang="en-GB" sz="2400" spc="-1" strike="noStrike">
                <a:solidFill>
                  <a:srgbClr val="ffffff"/>
                </a:solidFill>
                <a:latin typeface="Arial"/>
              </a:rPr>
              <a:t>	</a:t>
            </a:r>
            <a:r>
              <a:rPr b="0" lang="en-GB" sz="2400" spc="-1" strike="noStrike">
                <a:solidFill>
                  <a:srgbClr val="fbef01"/>
                </a:solidFill>
                <a:latin typeface="Times New Roman"/>
              </a:rPr>
              <a:t>http://meta-e.uibk.ac.at/</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Preserving the physical reliability and usability of the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data.</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echnology advance and redundancy.</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aising revenue by providing valued servic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304920" y="228600"/>
            <a:ext cx="8474040" cy="5822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One final though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he “Law of Disruption” by Downes and Mui *</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a:t>
            </a:r>
            <a:r>
              <a:rPr b="1" i="1" lang="en-GB" sz="2400" spc="-1" strike="noStrike">
                <a:solidFill>
                  <a:srgbClr val="ffffff"/>
                </a:solidFill>
                <a:latin typeface="Arial"/>
              </a:rPr>
              <a:t>social, political and economic system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change incrementally, but technolog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changes exponentially.</a:t>
            </a:r>
            <a:r>
              <a:rPr b="1" lang="en-GB" sz="2400" spc="-1" strike="noStrike">
                <a:solidFill>
                  <a:srgbClr val="ffffff"/>
                </a:solidFill>
                <a:latin typeface="Arial"/>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What I hope we will soon see is not society or cultur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stitutions “catching up” with technology, but to se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echnology being adjusted and “tamed” for our need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0" lang="en-GB" sz="1400" spc="-1" strike="noStrike">
                <a:solidFill>
                  <a:srgbClr val="ffffff"/>
                </a:solidFill>
                <a:latin typeface="Arial"/>
              </a:rPr>
              <a:t>Downes, Larry and Chunka Mui. 1998. </a:t>
            </a:r>
            <a:r>
              <a:rPr b="0" i="1" lang="en-GB" sz="1400" spc="-1" strike="noStrike">
                <a:solidFill>
                  <a:srgbClr val="ffffff"/>
                </a:solidFill>
                <a:latin typeface="Arial"/>
              </a:rPr>
              <a:t>Unleashing the Killer App: Digital Strategies for Market </a:t>
            </a:r>
            <a:r>
              <a:rPr b="0" i="1" lang="en-GB" sz="1400" spc="-1" strike="noStrike">
                <a:solidFill>
                  <a:srgbClr val="ffffff"/>
                </a:solidFill>
                <a:latin typeface="Arial"/>
              </a:rPr>
              <a:t>	</a:t>
            </a:r>
            <a:r>
              <a:rPr b="0" i="1" lang="en-GB" sz="1400" spc="-1" strike="noStrike">
                <a:solidFill>
                  <a:srgbClr val="ffffff"/>
                </a:solidFill>
                <a:latin typeface="Arial"/>
              </a:rPr>
              <a:t>Dominance. </a:t>
            </a:r>
            <a:r>
              <a:rPr b="0" lang="en-GB" sz="1400" spc="-1" strike="noStrike">
                <a:solidFill>
                  <a:srgbClr val="ffffff"/>
                </a:solidFill>
                <a:latin typeface="Arial"/>
              </a:rPr>
              <a:t>Boston: Harvard Business School Press.</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828800"/>
            <a:ext cx="807696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 </a:t>
            </a:r>
            <a:r>
              <a:rPr b="1" lang="en-US" sz="3600" spc="-1" strike="noStrike">
                <a:solidFill>
                  <a:srgbClr val="ffffff"/>
                </a:solidFill>
                <a:latin typeface="Arial"/>
              </a:rPr>
              <a:t>Lessons Learned</a:t>
            </a:r>
            <a:r>
              <a:rPr b="0" lang="en-US" sz="4400" spc="-1" strike="noStrike">
                <a:solidFill>
                  <a:srgbClr val="000000"/>
                </a:solidFill>
                <a:latin typeface="Arial"/>
              </a:rPr>
              <a:t> </a:t>
            </a:r>
            <a:br>
              <a:rPr sz="4400"/>
            </a:br>
            <a:br>
              <a:rPr sz="3600"/>
            </a:br>
            <a:br>
              <a:rPr sz="3600"/>
            </a:b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4038120"/>
            <a:ext cx="6400800" cy="167652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on Tanner</a:t>
            </a:r>
            <a:endParaRPr b="0" lang="en-US" sz="2400" spc="-1" strike="noStrike">
              <a:solidFill>
                <a:srgbClr val="000000"/>
              </a:solidFill>
              <a:latin typeface="Times New Roman"/>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Brush Script MT"/>
              </a:rPr>
              <a:t>Higher Education Digitisation Service</a:t>
            </a:r>
            <a:endParaRPr b="0" lang="en-US" sz="2800" spc="-1" strike="noStrike">
              <a:solidFill>
                <a:srgbClr val="000000"/>
              </a:solidFill>
              <a:latin typeface="Times New Roman"/>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ttp://heds.herts.ac.uk</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mail: heds@herts.ac.uk</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HEDS%20logo_inner%20shadow" descr=""/>
          <p:cNvPicPr/>
          <p:nvPr/>
        </p:nvPicPr>
        <p:blipFill>
          <a:blip r:embed="rId2"/>
          <a:stretch/>
        </p:blipFill>
        <p:spPr>
          <a:xfrm>
            <a:off x="3200400" y="2819520"/>
            <a:ext cx="2805120" cy="8571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304920" y="304920"/>
            <a:ext cx="8686800" cy="4786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Introduct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EDS business model - why do we do it this way?</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Project planning and management.</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he real costs of digitisation.</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What challenges remain?</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304920" y="304920"/>
            <a:ext cx="8474040" cy="5335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EDS Business Model: Client Sid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single point of contact for our clients whatever the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original materials or the project goals.</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rvices highly tailored to meet each clients exac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needs, plus some supporting standard products.</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lient side contracts based upon a full </a:t>
            </a:r>
            <a:r>
              <a:rPr b="1" i="1" lang="en-US" sz="2400" spc="-1" strike="noStrike">
                <a:solidFill>
                  <a:srgbClr val="ffffff"/>
                </a:solidFill>
                <a:latin typeface="Arial"/>
              </a:rPr>
              <a:t>Service Level </a:t>
            </a: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Agreement</a:t>
            </a:r>
            <a:r>
              <a:rPr b="1" lang="en-US" sz="2400" spc="-1" strike="noStrike">
                <a:solidFill>
                  <a:srgbClr val="ffffff"/>
                </a:solidFill>
                <a:latin typeface="Arial"/>
              </a:rPr>
              <a:t> that specifies the job and costs in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etail.</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ll contracts supported by benchmark samples and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Quality Assurance plans and guarante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04920" y="304920"/>
            <a:ext cx="8474040" cy="612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HEDS Business Model: Supply Sid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A range of commercial vendors bound to HEDS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through </a:t>
            </a:r>
            <a:r>
              <a:rPr b="1" i="1" lang="en-GB" sz="2400" spc="-1" strike="noStrike">
                <a:solidFill>
                  <a:srgbClr val="ffffff"/>
                </a:solidFill>
                <a:latin typeface="Arial"/>
              </a:rPr>
              <a:t>Framework Agreement</a:t>
            </a:r>
            <a:r>
              <a:rPr b="1" lang="en-GB" sz="2400" spc="-1" strike="noStrike">
                <a:solidFill>
                  <a:srgbClr val="ffffff"/>
                </a:solidFill>
                <a:latin typeface="Arial"/>
              </a:rPr>
              <a:t> documents.</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EDS does a biennial survey of potential suppliers.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A small number of suppliers are selected for their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u="sng">
                <a:solidFill>
                  <a:srgbClr val="ffffff"/>
                </a:solidFill>
                <a:uFillTx/>
                <a:latin typeface="Arial"/>
              </a:rPr>
              <a:t>proven</a:t>
            </a:r>
            <a:r>
              <a:rPr b="1" lang="en-GB" sz="2400" spc="-1" strike="noStrike">
                <a:solidFill>
                  <a:srgbClr val="ffffff"/>
                </a:solidFill>
                <a:latin typeface="Arial"/>
              </a:rPr>
              <a:t> expertise in one or two areas.</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Each task is assigned based upon the bes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u="sng">
                <a:solidFill>
                  <a:srgbClr val="ffffff"/>
                </a:solidFill>
                <a:uFillTx/>
                <a:latin typeface="Arial"/>
              </a:rPr>
              <a:t>value for money</a:t>
            </a:r>
            <a:r>
              <a:rPr b="1" lang="en-GB" sz="2400" spc="-1" strike="noStrike">
                <a:solidFill>
                  <a:srgbClr val="ffffff"/>
                </a:solidFill>
                <a:latin typeface="Arial"/>
              </a:rPr>
              <a:t> at the time.</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igh volume tasks are distributed to spread risk.</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EDS work closely with the production floor staff.</a:t>
            </a: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304920" y="304920"/>
            <a:ext cx="8474040" cy="5761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HEDS: Making Money</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w overheads - no expensive scanning equipmen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conversion staff or space needed. </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Do have software, high spec. PC’s, large/fast data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storage needs and fire safes.</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EDS either adds a small margin to the uni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production value or charges a direct cost to the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client.</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ometimes act as managing agents for our clients on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a consultancy basis.</a:t>
            </a: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304920" y="304920"/>
            <a:ext cx="8474040" cy="4482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roject Planning is about 3 thing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Vision - can you see the whole picture?</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isk management - ensuring the vision is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achievable.</a:t>
            </a: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source management - putting vision into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practic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304920" y="304920"/>
            <a:ext cx="8458200" cy="5274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roject Planning - Vis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Describe the project from cradle to grave.</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Understand how the elements fit together.</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Do not need to understand the detail of every elemen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but must understand it’s project implication.</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e able to define </a:t>
            </a:r>
            <a:r>
              <a:rPr b="1" lang="en-GB" sz="2400" spc="-1" strike="noStrike" u="sng">
                <a:solidFill>
                  <a:srgbClr val="ffffff"/>
                </a:solidFill>
                <a:uFillTx/>
                <a:latin typeface="Arial"/>
              </a:rPr>
              <a:t>solid</a:t>
            </a:r>
            <a:r>
              <a:rPr b="1" lang="en-GB" sz="2400" spc="-1" strike="noStrike">
                <a:solidFill>
                  <a:srgbClr val="ffffff"/>
                </a:solidFill>
                <a:latin typeface="Arial"/>
              </a:rPr>
              <a:t> objectives, goals and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deliverables.</a:t>
            </a: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buClr>
                <a:srgbClr val="fbef01"/>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he Hollywood pitch!</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304920" y="304920"/>
            <a:ext cx="8458200" cy="5396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sk Managemen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mploy a good project manager.</a:t>
            </a: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fine clear objectives and plan.</a:t>
            </a:r>
            <a:endParaRPr b="0" lang="en-US" sz="2400" spc="-1" strike="noStrike">
              <a:solidFill>
                <a:srgbClr val="000000"/>
              </a:solidFill>
              <a:latin typeface="Times New Roman"/>
            </a:endParaRPr>
          </a:p>
          <a:p>
            <a:pPr lvl="4" marL="1828800">
              <a:lnSpc>
                <a:spcPct val="100000"/>
              </a:lnSpc>
              <a:buClr>
                <a:srgbClr val="fbef01"/>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fine the acceptance criteria and assign ranking.</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sure early scheduling of equipment delivery.</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raining - invest.</a:t>
            </a: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e honest about the potential problems and the </a:t>
            </a:r>
            <a:r>
              <a:rPr b="1" lang="en-US" sz="2400" spc="-1" strike="noStrike">
                <a:solidFill>
                  <a:srgbClr val="ffffff"/>
                </a:solidFill>
                <a:latin typeface="Arial"/>
              </a:rPr>
              <a:t>	</a:t>
            </a:r>
            <a:r>
              <a:rPr b="1" lang="en-US" sz="2400" spc="-1" strike="noStrike">
                <a:solidFill>
                  <a:srgbClr val="ffffff"/>
                </a:solidFill>
                <a:latin typeface="Arial"/>
              </a:rPr>
              <a:t>risk of </a:t>
            </a:r>
            <a:r>
              <a:rPr b="1" lang="en-US" sz="2400" spc="-1" strike="noStrike">
                <a:solidFill>
                  <a:srgbClr val="ffffff"/>
                </a:solidFill>
                <a:latin typeface="Arial"/>
              </a:rPr>
              <a:t>	</a:t>
            </a:r>
            <a:r>
              <a:rPr b="1" lang="en-US" sz="2400" spc="-1" strike="noStrike">
                <a:solidFill>
                  <a:srgbClr val="ffffff"/>
                </a:solidFill>
                <a:latin typeface="Arial"/>
              </a:rPr>
              <a:t>failur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304920" y="228600"/>
            <a:ext cx="8474040" cy="606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sting: HEDS lessons learned:</a:t>
            </a:r>
            <a:endParaRPr b="0" lang="en-US" sz="3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sts depend up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he information content of the originals.</a:t>
            </a: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he balance of costs, technology and project goals.</a:t>
            </a:r>
            <a:endParaRPr b="0" lang="en-US" sz="24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fbef0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t depends on the physical nature of the original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materia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t>
            </a:r>
            <a:r>
              <a:rPr b="1" i="1" lang="en-GB" sz="1200" spc="-1" strike="noStrike">
                <a:solidFill>
                  <a:srgbClr val="ffffff"/>
                </a:solidFill>
                <a:latin typeface="Arial"/>
              </a:rPr>
              <a:t>I'd really like you to forget those figures for how much it costs JSTOR to do digitization.  They might be helpful, but in reality what matters is not how much it costs JSTOR, HEDS, GDF or any other organisation.  What matters is how much it is going to cost </a:t>
            </a:r>
            <a:r>
              <a:rPr b="1" i="1" lang="en-GB" sz="1200" spc="-1" strike="noStrike" u="sng">
                <a:solidFill>
                  <a:srgbClr val="ffffff"/>
                </a:solidFill>
                <a:uFillTx/>
                <a:latin typeface="Arial"/>
              </a:rPr>
              <a:t>you</a:t>
            </a:r>
            <a:r>
              <a:rPr b="1" i="1" lang="en-GB" sz="1200" spc="-1" strike="noStrike">
                <a:solidFill>
                  <a:srgbClr val="ffffff"/>
                </a:solidFill>
                <a:latin typeface="Arial"/>
              </a:rPr>
              <a:t>."</a:t>
            </a:r>
            <a:r>
              <a:rPr b="1" lang="en-GB" sz="1200" spc="-1" strike="noStrike">
                <a:solidFill>
                  <a:srgbClr val="ffffff"/>
                </a:solidFill>
                <a:latin typeface="Arial"/>
              </a:rPr>
              <a:t> </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Kevin Guthrie, President of JSTOR during the closing panel sess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gitising Journals: Conference on Future Strategies for European Libraries, March 2000, Copenhagen.</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Higher Education Digitisation Service: Lessons Learned</a:t>
            </a: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dc:creator>
  <dc:description/>
  <dc:language>en-US</dc:language>
  <cp:lastModifiedBy>HEDS</cp:lastModifiedBy>
  <cp:lastPrinted>1997-06-19T15:52:52Z</cp:lastPrinted>
  <dcterms:modified xsi:type="dcterms:W3CDTF">2000-10-26T13:59:42Z</dcterms:modified>
  <cp:revision>92</cp:revision>
  <dc:subject/>
  <dc:title>The Higher Education Digitisation Service   meeting the needs of the higher education community</dc:title>
</cp:coreProperties>
</file>